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822320" y="685440"/>
            <a:ext cx="3213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E430-A86B-4CDB-A050-D1E5860E7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9AE8-2771-4E3F-9C03-E664D0AC7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822320" y="685800"/>
            <a:ext cx="321336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FA25-A831-40C0-81B5-843A0A48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58291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4405680"/>
            <a:ext cx="58291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5E40-67EF-4285-AB4B-01062BC4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1124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44056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44056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88EE-2FD3-4FBB-82DA-D6C4B297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18766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112480"/>
            <a:ext cx="18766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112480"/>
            <a:ext cx="18766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4405680"/>
            <a:ext cx="18766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4405680"/>
            <a:ext cx="18766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4405680"/>
            <a:ext cx="18766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A717-A71F-4B83-93D1-37F0DCDA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112480"/>
            <a:ext cx="582912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9093-B7F4-4F61-B085-574299E6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58291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756-B9FB-4436-9CA5-DA4251CC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284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112480"/>
            <a:ext cx="284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B7FA-89FD-4E30-8823-1535AF7B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7DB0-49F4-444C-A416-39DA8C68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650520"/>
            <a:ext cx="5829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9BF1-11B9-4B78-9BCC-1A235DDE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112480"/>
            <a:ext cx="284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44056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A8A4-F1FD-45A7-BD96-BBB4BCAB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284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1124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44056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A9CA-4DA8-4720-B82C-1DF48AE7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1124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4405680"/>
            <a:ext cx="58291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83BB-CF13-40E6-83DB-8652F356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112480"/>
            <a:ext cx="58291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6664320"/>
            <a:ext cx="1428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6664320"/>
            <a:ext cx="21715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6664320"/>
            <a:ext cx="1428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3E5D-3F19-471B-90D7-ED22053CE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-25560" y="165240"/>
          <a:ext cx="6883560" cy="71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165240"/>
                    <a:ext cx="6883560" cy="71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Rectangle 37"/>
          <p:cNvSpPr/>
          <p:nvPr/>
        </p:nvSpPr>
        <p:spPr>
          <a:xfrm>
            <a:off x="5265360" y="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 &amp; 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8"/>
          <p:cNvSpPr/>
          <p:nvPr/>
        </p:nvSpPr>
        <p:spPr>
          <a:xfrm>
            <a:off x="992880" y="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Sch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9"/>
          <p:cNvSpPr/>
          <p:nvPr/>
        </p:nvSpPr>
        <p:spPr>
          <a:xfrm>
            <a:off x="1065960" y="45720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4983840" y="38088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 &amp; -tch /ch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1"/>
          <p:cNvSpPr/>
          <p:nvPr/>
        </p:nvSpPr>
        <p:spPr>
          <a:xfrm>
            <a:off x="3886560" y="457200"/>
            <a:ext cx="808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2"/>
          <p:cNvSpPr/>
          <p:nvPr/>
        </p:nvSpPr>
        <p:spPr>
          <a:xfrm>
            <a:off x="530280" y="1523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3"/>
          <p:cNvSpPr/>
          <p:nvPr/>
        </p:nvSpPr>
        <p:spPr>
          <a:xfrm>
            <a:off x="615240" y="1828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4"/>
          <p:cNvSpPr/>
          <p:nvPr/>
        </p:nvSpPr>
        <p:spPr>
          <a:xfrm>
            <a:off x="538920" y="22096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5"/>
          <p:cNvSpPr/>
          <p:nvPr/>
        </p:nvSpPr>
        <p:spPr>
          <a:xfrm>
            <a:off x="615960" y="25146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6"/>
          <p:cNvSpPr/>
          <p:nvPr/>
        </p:nvSpPr>
        <p:spPr>
          <a:xfrm>
            <a:off x="533520" y="289548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7"/>
          <p:cNvSpPr/>
          <p:nvPr/>
        </p:nvSpPr>
        <p:spPr>
          <a:xfrm>
            <a:off x="545760" y="3276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8"/>
          <p:cNvSpPr/>
          <p:nvPr/>
        </p:nvSpPr>
        <p:spPr>
          <a:xfrm>
            <a:off x="4045680" y="152388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9"/>
          <p:cNvSpPr/>
          <p:nvPr/>
        </p:nvSpPr>
        <p:spPr>
          <a:xfrm>
            <a:off x="4114800" y="18288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nch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0"/>
          <p:cNvSpPr/>
          <p:nvPr/>
        </p:nvSpPr>
        <p:spPr>
          <a:xfrm>
            <a:off x="4047120" y="22096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1"/>
          <p:cNvSpPr/>
          <p:nvPr/>
        </p:nvSpPr>
        <p:spPr>
          <a:xfrm>
            <a:off x="4119840" y="25909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2"/>
          <p:cNvSpPr/>
          <p:nvPr/>
        </p:nvSpPr>
        <p:spPr>
          <a:xfrm>
            <a:off x="4045680" y="289548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4"/>
          <p:cNvSpPr/>
          <p:nvPr/>
        </p:nvSpPr>
        <p:spPr>
          <a:xfrm>
            <a:off x="457200" y="42670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had too much to eat at lunch and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6"/>
          <p:cNvSpPr/>
          <p:nvPr/>
        </p:nvSpPr>
        <p:spPr>
          <a:xfrm>
            <a:off x="504360" y="4952880"/>
            <a:ext cx="49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are thirsty you need t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7"/>
          <p:cNvSpPr/>
          <p:nvPr/>
        </p:nvSpPr>
        <p:spPr>
          <a:xfrm>
            <a:off x="546840" y="533412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nch your th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8"/>
          <p:cNvSpPr/>
          <p:nvPr/>
        </p:nvSpPr>
        <p:spPr>
          <a:xfrm>
            <a:off x="323640" y="5638680"/>
            <a:ext cx="675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as Chewbacca thrown into the ditch?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9"/>
          <p:cNvSpPr/>
          <p:nvPr/>
        </p:nvSpPr>
        <p:spPr>
          <a:xfrm>
            <a:off x="609480" y="60199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0"/>
          <p:cNvSpPr/>
          <p:nvPr/>
        </p:nvSpPr>
        <p:spPr>
          <a:xfrm>
            <a:off x="611280" y="632448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your own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2"/>
          <p:cNvSpPr/>
          <p:nvPr/>
        </p:nvSpPr>
        <p:spPr>
          <a:xfrm>
            <a:off x="3888360" y="0"/>
            <a:ext cx="959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3"/>
          <p:cNvSpPr/>
          <p:nvPr/>
        </p:nvSpPr>
        <p:spPr>
          <a:xfrm>
            <a:off x="685800" y="47242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4"/>
          <p:cNvSpPr/>
          <p:nvPr/>
        </p:nvSpPr>
        <p:spPr>
          <a:xfrm>
            <a:off x="762120" y="47242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7"/>
          <p:cNvSpPr/>
          <p:nvPr/>
        </p:nvSpPr>
        <p:spPr>
          <a:xfrm>
            <a:off x="533520" y="4648320"/>
            <a:ext cx="65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she got si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8"/>
          <p:cNvSpPr/>
          <p:nvPr/>
        </p:nvSpPr>
        <p:spPr>
          <a:xfrm>
            <a:off x="4114800" y="3276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wbac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501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6501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7:29:55Z</dcterms:created>
  <dc:creator/>
  <dc:description/>
  <dc:language>en-US</dc:language>
  <cp:lastModifiedBy>DOC23 MacBook Scholl</cp:lastModifiedBy>
  <cp:lastPrinted>2010-03-09T18:46:46Z</cp:lastPrinted>
  <dcterms:modified xsi:type="dcterms:W3CDTF">2011-03-14T17:33:20Z</dcterms:modified>
  <cp:revision>189</cp:revision>
  <dc:subject/>
  <dc:title>PowerPoint Presentation</dc:title>
</cp:coreProperties>
</file>